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A8E-51DE-4423-B5FF-DDC8FC32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FB21-8C59-4912-A859-969452D82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F27D-3877-4C16-938B-E3715AB3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42B-6771-4456-BD5F-CED6D2F1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4A8F-E885-4A0F-AB6A-047D7045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5862-9344-4EBB-AD3F-94E7E55A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7787-98EA-4AAC-8EE8-5DACB0A4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0BB-6436-4DF5-A3FC-AB8A2802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E6F-D89F-4551-A005-C2043E0B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Matt Monj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Movies with Movie Mak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Pre-Requisites – We need a movie file to edit!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a video file from almost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Education streaming (unitedstrea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/student recorded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digital cameras, Flickr, Google images, etc. Just be sure to screen them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your video clips and  pictures into a folder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w Let’s Make Some Mag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your 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may have to do a Search to locate it the first time you use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task bar on the left hand side of the screen choose Import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35584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36232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Oval 6"/>
          <p:cNvSpPr/>
          <p:nvPr/>
        </p:nvSpPr>
        <p:spPr>
          <a:xfrm>
            <a:off x="6477120" y="1981080"/>
            <a:ext cx="9903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Making Movie Magic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your movie file – note it must be .asf, .avi, .wmv, or mpeg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734000" cy="3855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8077320" y="38862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657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rag and Edit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video segment is now broken into tin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60020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the piece that you want to edit into boxe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hat says Show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72040" cy="4330440"/>
          </a:xfrm>
          <a:prstGeom prst="rect">
            <a:avLst/>
          </a:prstGeom>
          <a:ln w="0">
            <a:noFill/>
          </a:ln>
        </p:spPr>
      </p:pic>
      <p:sp>
        <p:nvSpPr>
          <p:cNvPr id="102" name="Oval 6"/>
          <p:cNvSpPr/>
          <p:nvPr/>
        </p:nvSpPr>
        <p:spPr>
          <a:xfrm>
            <a:off x="4724280" y="449568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343040" y="4419720"/>
            <a:ext cx="16002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your own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udio track line choose a section of audio that you want to Mute and right-click o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962520" y="1406520"/>
            <a:ext cx="4829040" cy="4079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876920" y="5181480"/>
            <a:ext cx="19810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6858000" y="3505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Record your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Microphone Icon in the time line to record your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your narration and save the file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You can also import music files like you did the video c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038480" y="990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ish your movie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Choose to save your movie to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355840" cy="4648320"/>
          </a:xfrm>
          <a:prstGeom prst="rect">
            <a:avLst/>
          </a:prstGeom>
          <a:ln w="0">
            <a:noFill/>
          </a:ln>
        </p:spPr>
      </p:pic>
      <p:sp>
        <p:nvSpPr>
          <p:cNvPr id="117" name="Oval 5"/>
          <p:cNvSpPr/>
          <p:nvPr/>
        </p:nvSpPr>
        <p:spPr>
          <a:xfrm>
            <a:off x="5638680" y="2666880"/>
            <a:ext cx="14479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khingerty</cp:lastModifiedBy>
  <dcterms:modified xsi:type="dcterms:W3CDTF">2008-08-26T01:00:18Z</dcterms:modified>
  <cp:revision>68</cp:revision>
  <dc:subject/>
  <dc:title>PowerPoint Presentation</dc:title>
</cp:coreProperties>
</file>