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647D-AC3E-4D87-A706-190BD07FD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ABFB-6F5F-4B26-B81F-4EC6B4988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8385-46CF-4DDC-90BA-D047817ED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12CA-FEE7-4477-BE83-3754350FE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2244-0540-4F05-B8F8-DC5943652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39EA-F383-495F-8C72-540187BB2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E27D-CD8A-4CE7-AE7B-363BEAAC4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50EE-10E4-4E9B-AABA-DD7D2B9F6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DFF7-A5EE-4DC0-B63F-EDF1A8BBA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/>
          <p:cNvSpPr/>
          <p:nvPr/>
        </p:nvSpPr>
        <p:spPr>
          <a:xfrm>
            <a:off x="228600" y="228600"/>
            <a:ext cx="8686800" cy="5638680"/>
          </a:xfrm>
          <a:prstGeom prst="roundRect">
            <a:avLst>
              <a:gd name="adj" fmla="val 184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5800" y="327672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Matt Monja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Movies with Movie Maker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Pre-Requisites – We need a movie file to edit!</a:t>
            </a:r>
            <a:endParaRPr b="0" lang="en-US" sz="28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a video file from almost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Education streaming (unitedstrea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/student recorded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s (digital cameras, Flickr, Google images, etc. Just be sure to screen them fir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your video clips and  pictures into a folder on your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Now Let’s Make Some Magi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5791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up your Windows Movie 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ou may have to do a Search to locate it the first time you use the progra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task bar on the left hand side of the screen choose Import Vid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400800" y="1066680"/>
            <a:ext cx="2355840" cy="4648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2362320" cy="412920"/>
          </a:xfrm>
          <a:prstGeom prst="rect">
            <a:avLst/>
          </a:prstGeom>
          <a:ln w="0">
            <a:noFill/>
          </a:ln>
        </p:spPr>
      </p:pic>
      <p:sp>
        <p:nvSpPr>
          <p:cNvPr id="92" name="Oval 6"/>
          <p:cNvSpPr/>
          <p:nvPr/>
        </p:nvSpPr>
        <p:spPr>
          <a:xfrm>
            <a:off x="6477120" y="1981080"/>
            <a:ext cx="9903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Making Movie Magic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e to your movie file – note it must be .asf, .avi, .wmv, or mpeg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Im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114800" y="990720"/>
            <a:ext cx="4734000" cy="385596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8077320" y="388620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2657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Drag and Edit</a:t>
            </a: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video segment is now broken into tiny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80880" y="1600200"/>
            <a:ext cx="2895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g the piece that you want to edit into boxes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icon that says Show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5072040" cy="4330440"/>
          </a:xfrm>
          <a:prstGeom prst="rect">
            <a:avLst/>
          </a:prstGeom>
          <a:ln w="0">
            <a:noFill/>
          </a:ln>
        </p:spPr>
      </p:pic>
      <p:sp>
        <p:nvSpPr>
          <p:cNvPr id="102" name="Oval 6"/>
          <p:cNvSpPr/>
          <p:nvPr/>
        </p:nvSpPr>
        <p:spPr>
          <a:xfrm>
            <a:off x="4724280" y="449568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H="1">
            <a:off x="4343040" y="4419720"/>
            <a:ext cx="16002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your own Narration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352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Audio track line choose a section of audio that you want to Mute and right-click on tha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962520" y="1406520"/>
            <a:ext cx="4829040" cy="4079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876920" y="5181480"/>
            <a:ext cx="198108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6858000" y="35053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Record your Narration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Microphone Icon in the time line to record your nar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your narration and save the file in a folder on you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You can also import music files like you did the video cl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114800" y="990720"/>
            <a:ext cx="4572000" cy="2286000"/>
          </a:xfrm>
          <a:prstGeom prst="rect">
            <a:avLst/>
          </a:prstGeom>
          <a:ln w="0">
            <a:noFill/>
          </a:ln>
        </p:spPr>
      </p:pic>
      <p:sp>
        <p:nvSpPr>
          <p:cNvPr id="112" name="Oval 5"/>
          <p:cNvSpPr/>
          <p:nvPr/>
        </p:nvSpPr>
        <p:spPr>
          <a:xfrm>
            <a:off x="4038480" y="9907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Finish your movie</a:t>
            </a: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 Choose to save your movie to your 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638680" y="609480"/>
            <a:ext cx="2355840" cy="4648320"/>
          </a:xfrm>
          <a:prstGeom prst="rect">
            <a:avLst/>
          </a:prstGeom>
          <a:ln w="0">
            <a:noFill/>
          </a:ln>
        </p:spPr>
      </p:pic>
      <p:sp>
        <p:nvSpPr>
          <p:cNvPr id="117" name="Oval 5"/>
          <p:cNvSpPr/>
          <p:nvPr/>
        </p:nvSpPr>
        <p:spPr>
          <a:xfrm>
            <a:off x="5638680" y="2666880"/>
            <a:ext cx="14479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6:32:32Z</dcterms:created>
  <dc:creator>Anthony Pappas</dc:creator>
  <dc:description/>
  <dc:language>en-US</dc:language>
  <cp:lastModifiedBy>khingerty</cp:lastModifiedBy>
  <dcterms:modified xsi:type="dcterms:W3CDTF">2008-08-26T01:00:18Z</dcterms:modified>
  <cp:revision>68</cp:revision>
  <dc:subject/>
  <dc:title>PowerPoint Presentation</dc:title>
</cp:coreProperties>
</file>