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05A-36C9-45BF-AC1F-456046649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3F76-6D72-496E-91D9-7FF61D95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6DB8-3B9A-4763-A66C-197179094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29D4-7FB2-4BB1-B80D-62520D1D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CED3-077A-4E70-A332-9960F559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76CB-EFB3-4937-9833-76A7E527A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C885-44E5-42D9-9B5E-51934065E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B87C-2DBC-475A-9D5E-FFD5E6FC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2978-5497-4281-B476-10A6E773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>
            <a:off x="228600" y="228600"/>
            <a:ext cx="8686800" cy="5638680"/>
          </a:xfrm>
          <a:prstGeom prst="roundRect">
            <a:avLst>
              <a:gd name="adj" fmla="val 184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32767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Matt Monja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Movies with Movie Maker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Pre-Requisites – We need a movie file to edit!</a:t>
            </a:r>
            <a:endParaRPr b="0" lang="en-US" sz="28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a video file from almost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Education streaming (unitedstrea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/student recorded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 (digital cameras, Flickr, Google images, etc. Just be sure to screen them fir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your video clips and  pictures into a folder on your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ow Let’s Make Some Magi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up your Windows Movi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may have to do a Search to locate it the first time you use the progra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task bar on the left hand side of the screen choose Import Vi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400800" y="1066680"/>
            <a:ext cx="2355840" cy="464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2362320" cy="412920"/>
          </a:xfrm>
          <a:prstGeom prst="rect">
            <a:avLst/>
          </a:prstGeom>
          <a:ln w="0">
            <a:noFill/>
          </a:ln>
        </p:spPr>
      </p:pic>
      <p:sp>
        <p:nvSpPr>
          <p:cNvPr id="92" name="Oval 6"/>
          <p:cNvSpPr/>
          <p:nvPr/>
        </p:nvSpPr>
        <p:spPr>
          <a:xfrm>
            <a:off x="6477120" y="1981080"/>
            <a:ext cx="9903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Making Movie Magic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e to your movie file – note it must be .asf, .avi, .wmv, or mpeg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734000" cy="385596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8077320" y="38862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2657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rag and Edit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video segment is now broken into tiny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1600200"/>
            <a:ext cx="289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 the piece that you want to edit into boxe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icon that says Show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072040" cy="4330440"/>
          </a:xfrm>
          <a:prstGeom prst="rect">
            <a:avLst/>
          </a:prstGeom>
          <a:ln w="0">
            <a:noFill/>
          </a:ln>
        </p:spPr>
      </p:pic>
      <p:sp>
        <p:nvSpPr>
          <p:cNvPr id="102" name="Oval 6"/>
          <p:cNvSpPr/>
          <p:nvPr/>
        </p:nvSpPr>
        <p:spPr>
          <a:xfrm>
            <a:off x="4724280" y="449568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4343040" y="4419720"/>
            <a:ext cx="16002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your own Narra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352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Audio track line choose a section of audio that you want to Mute and right-click on tha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962520" y="1406520"/>
            <a:ext cx="4829040" cy="4079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876920" y="5181480"/>
            <a:ext cx="19810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6858000" y="35053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Record your Narra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Microphone Icon in the time line to record your 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your narration and save the file in a folder on you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You can also import music files like you did the video cl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57200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Oval 5"/>
          <p:cNvSpPr/>
          <p:nvPr/>
        </p:nvSpPr>
        <p:spPr>
          <a:xfrm>
            <a:off x="4038480" y="9907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Finish your movie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 Choose to save your movie to your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638680" y="609480"/>
            <a:ext cx="2355840" cy="4648320"/>
          </a:xfrm>
          <a:prstGeom prst="rect">
            <a:avLst/>
          </a:prstGeom>
          <a:ln w="0">
            <a:noFill/>
          </a:ln>
        </p:spPr>
      </p:pic>
      <p:sp>
        <p:nvSpPr>
          <p:cNvPr id="117" name="Oval 5"/>
          <p:cNvSpPr/>
          <p:nvPr/>
        </p:nvSpPr>
        <p:spPr>
          <a:xfrm>
            <a:off x="5638680" y="2666880"/>
            <a:ext cx="14479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6:32:32Z</dcterms:created>
  <dc:creator>Anthony Pappas</dc:creator>
  <dc:description/>
  <dc:language>en-US</dc:language>
  <cp:lastModifiedBy>khingerty</cp:lastModifiedBy>
  <dcterms:modified xsi:type="dcterms:W3CDTF">2008-08-26T01:00:18Z</dcterms:modified>
  <cp:revision>68</cp:revision>
  <dc:subject/>
  <dc:title>PowerPoint Presentation</dc:title>
</cp:coreProperties>
</file>