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736B-F5B7-4E71-8F06-087B36C9C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F1F6-D80A-4FE5-8A11-7CC378472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7A97-DEA1-4DF1-A7B0-883713D36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6B06-E694-4699-AB63-5EDF21A8A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E46C-9C94-450F-B508-CAADA4742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4A3B-CCFF-4BC8-A455-A1602DE08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A0B5-D0C2-4C16-9061-90C581019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F443-60E7-496B-90D6-A8E56FD22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D533-94EE-4C54-A4F3-C4EF1A3BE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5636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5636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636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8"/>
          <p:cNvSpPr/>
          <p:nvPr/>
        </p:nvSpPr>
        <p:spPr>
          <a:xfrm>
            <a:off x="228600" y="228600"/>
            <a:ext cx="8686800" cy="5638680"/>
          </a:xfrm>
          <a:prstGeom prst="roundRect">
            <a:avLst>
              <a:gd name="adj" fmla="val 184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85800" y="327672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Matt Monja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ng Movies with Movie Maker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Pre-Requisites – We need a movie file to edit!</a:t>
            </a:r>
            <a:endParaRPr b="0" lang="en-US" sz="28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a video file from almost an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 Education streaming (unitedstrea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/student recorded c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s (digital cameras, Flickr, Google images, etc. Just be sure to screen them firs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your video clips and  pictures into a folder on your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Now Let’s Make Some Magic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5791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up your Windows Movie 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ou may have to do a Search to locate it the first time you use the program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task bar on the left hand side of the screen choose Import Vid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400800" y="1066680"/>
            <a:ext cx="2355840" cy="4648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2438280" y="1828800"/>
            <a:ext cx="2362320" cy="412920"/>
          </a:xfrm>
          <a:prstGeom prst="rect">
            <a:avLst/>
          </a:prstGeom>
          <a:ln w="0">
            <a:noFill/>
          </a:ln>
        </p:spPr>
      </p:pic>
      <p:sp>
        <p:nvSpPr>
          <p:cNvPr id="92" name="Oval 6"/>
          <p:cNvSpPr/>
          <p:nvPr/>
        </p:nvSpPr>
        <p:spPr>
          <a:xfrm>
            <a:off x="6477120" y="1981080"/>
            <a:ext cx="99036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Making Movie Magic continued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3657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igate to your movie file – note it must be .asf, .avi, .wmv, or mpeg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Im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4114800" y="990720"/>
            <a:ext cx="4734000" cy="3855960"/>
          </a:xfrm>
          <a:prstGeom prst="rect">
            <a:avLst/>
          </a:prstGeom>
          <a:ln w="0">
            <a:noFill/>
          </a:ln>
        </p:spPr>
      </p:pic>
      <p:sp>
        <p:nvSpPr>
          <p:cNvPr id="96" name="Oval 5"/>
          <p:cNvSpPr/>
          <p:nvPr/>
        </p:nvSpPr>
        <p:spPr>
          <a:xfrm>
            <a:off x="8077320" y="3886200"/>
            <a:ext cx="7617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4800600" y="3657600"/>
            <a:ext cx="2657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Drag and Edit</a:t>
            </a: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991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e video segment is now broken into tiny pi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80880" y="1600200"/>
            <a:ext cx="2895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g the piece that you want to edit into boxes 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icon that says Show Tim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5072040" cy="4330440"/>
          </a:xfrm>
          <a:prstGeom prst="rect">
            <a:avLst/>
          </a:prstGeom>
          <a:ln w="0">
            <a:noFill/>
          </a:ln>
        </p:spPr>
      </p:pic>
      <p:sp>
        <p:nvSpPr>
          <p:cNvPr id="102" name="Oval 6"/>
          <p:cNvSpPr/>
          <p:nvPr/>
        </p:nvSpPr>
        <p:spPr>
          <a:xfrm>
            <a:off x="4724280" y="4495680"/>
            <a:ext cx="914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 flipH="1">
            <a:off x="4343040" y="4419720"/>
            <a:ext cx="16002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ing your own Narration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352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Audio track line choose a section of audio that you want to Mute and right-click on that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M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3962520" y="1406520"/>
            <a:ext cx="4829040" cy="4079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4876920" y="5181480"/>
            <a:ext cx="198108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6858000" y="3505320"/>
            <a:ext cx="914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Record your Narration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Microphone Icon in the time line to record your nar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your narration and save the file in a folder on your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You can also import music files like you did the video cl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114800" y="990720"/>
            <a:ext cx="4572000" cy="2286000"/>
          </a:xfrm>
          <a:prstGeom prst="rect">
            <a:avLst/>
          </a:prstGeom>
          <a:ln w="0">
            <a:noFill/>
          </a:ln>
        </p:spPr>
      </p:pic>
      <p:sp>
        <p:nvSpPr>
          <p:cNvPr id="112" name="Oval 5"/>
          <p:cNvSpPr/>
          <p:nvPr/>
        </p:nvSpPr>
        <p:spPr>
          <a:xfrm>
            <a:off x="4038480" y="990720"/>
            <a:ext cx="914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5334120" y="3352680"/>
            <a:ext cx="31240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Finish your movie</a:t>
            </a: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 Choose to save your movie to your compu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638680" y="609480"/>
            <a:ext cx="2355840" cy="4648320"/>
          </a:xfrm>
          <a:prstGeom prst="rect">
            <a:avLst/>
          </a:prstGeom>
          <a:ln w="0">
            <a:noFill/>
          </a:ln>
        </p:spPr>
      </p:pic>
      <p:sp>
        <p:nvSpPr>
          <p:cNvPr id="117" name="Oval 5"/>
          <p:cNvSpPr/>
          <p:nvPr/>
        </p:nvSpPr>
        <p:spPr>
          <a:xfrm>
            <a:off x="5638680" y="2666880"/>
            <a:ext cx="14479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6:32:32Z</dcterms:created>
  <dc:creator>Anthony Pappas</dc:creator>
  <dc:description/>
  <dc:language>en-US</dc:language>
  <cp:lastModifiedBy>khingerty</cp:lastModifiedBy>
  <dcterms:modified xsi:type="dcterms:W3CDTF">2008-08-26T01:00:18Z</dcterms:modified>
  <cp:revision>68</cp:revision>
  <dc:subject/>
  <dc:title>PowerPoint Presentation</dc:title>
</cp:coreProperties>
</file>